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9BE7-D337-4B76-B76F-2E2C0F0DF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3640" y="1116720"/>
            <a:ext cx="8569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4247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4219920"/>
            <a:ext cx="84247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DFE5-42D8-4971-83EA-E8E5F74A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3640" y="1116720"/>
            <a:ext cx="8569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41112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41120" y="1699920"/>
            <a:ext cx="41112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4219920"/>
            <a:ext cx="41112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41120" y="4219920"/>
            <a:ext cx="41112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F064-CE57-47E6-9408-3B94A89F2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3640" y="1116720"/>
            <a:ext cx="8569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271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72680" y="1699920"/>
            <a:ext cx="271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699920"/>
            <a:ext cx="271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4219920"/>
            <a:ext cx="271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72680" y="4219920"/>
            <a:ext cx="271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4219920"/>
            <a:ext cx="271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8DF6-E2B9-436D-95BE-972A0575C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3640" y="1116720"/>
            <a:ext cx="8569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69992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B450-3440-4279-AD99-B2A444E1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3640" y="1116720"/>
            <a:ext cx="8569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8C4E-694C-4DB7-BFA2-6894A830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3640" y="1116720"/>
            <a:ext cx="8569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41112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1120" y="1699920"/>
            <a:ext cx="41112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D6B5-72BE-4755-8B92-2D77484E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3640" y="1116720"/>
            <a:ext cx="8569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B723-2FE2-4E45-9D3F-E59689FA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3640" y="1125360"/>
            <a:ext cx="856908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84AC-0420-492B-BD67-E1133519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3640" y="1116720"/>
            <a:ext cx="8569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41112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1120" y="1699920"/>
            <a:ext cx="41112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4219920"/>
            <a:ext cx="41112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A3D9-0834-49D0-993E-3D0B1AE8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3640" y="1116720"/>
            <a:ext cx="8569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41112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1120" y="1699920"/>
            <a:ext cx="41112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41120" y="4219920"/>
            <a:ext cx="41112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14F9-FE86-4DCF-871D-50816C28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3640" y="1116720"/>
            <a:ext cx="8569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41112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1120" y="1699920"/>
            <a:ext cx="41112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4219920"/>
            <a:ext cx="84247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3413-F236-4FD2-8802-80D5DFDE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00" y="333360"/>
            <a:ext cx="8569080" cy="703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ahoma"/>
              </a:rPr>
              <a:t>Sistema LinF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23640" y="1125360"/>
            <a:ext cx="8569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24000" y="169992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AF0E-79C6-4979-B81B-C5AA23A05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028000" y="333360"/>
            <a:ext cx="792000" cy="70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24000" y="1628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49116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Grupo Omega – FBAI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1280" y="4869000"/>
            <a:ext cx="8137440" cy="1326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upo Ome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stemas de Informação – 8° Semes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culdades Batista de Administração e Informá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987640" y="1989000"/>
            <a:ext cx="3095640" cy="2754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333360"/>
            <a:ext cx="9144000" cy="23990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ff"/>
                </a:solidFill>
                <a:latin typeface="Tahoma"/>
              </a:rPr>
              <a:t>Sistema LinFOO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496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0920" y="1916280"/>
            <a:ext cx="86040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Sistema LinFOOD tem como objetivo automatizar restaurantes tipo “a la carte”, possibilita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* Cadastro de Prod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* Uso de Observações nos ped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* Visualização do status das Me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* Impressão de Pedidos e Ticket de V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* Recebimento da Co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* Emissão de Relatórios gerenci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496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50920" y="1916280"/>
            <a:ext cx="86040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Sistema LinFOOD é designado para funcionamento em rede local, através de uma  intra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ua interface utiliza o web browser instalado na máquina, tornando o uso do sistema semelhante à navegação na Internet e, assim,  amigável para os usuá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496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quitetur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baixo é mostrada a arquitetura do Sistema Lin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0" y="2425680"/>
            <a:ext cx="9144000" cy="3475800"/>
            <a:chOff x="0" y="2425680"/>
            <a:chExt cx="9144000" cy="3475800"/>
          </a:xfrm>
        </p:grpSpPr>
        <p:graphicFrame>
          <p:nvGraphicFramePr>
            <p:cNvPr id="55" name=""/>
            <p:cNvGraphicFramePr/>
            <p:nvPr/>
          </p:nvGraphicFramePr>
          <p:xfrm>
            <a:off x="0" y="2808000"/>
            <a:ext cx="1403280" cy="810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2808000"/>
                      <a:ext cx="1403280" cy="81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" name=""/>
            <p:cNvSpPr/>
            <p:nvPr/>
          </p:nvSpPr>
          <p:spPr>
            <a:xfrm>
              <a:off x="1246680" y="3015720"/>
              <a:ext cx="87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6200000">
              <a:off x="2368800" y="2641320"/>
              <a:ext cx="249480" cy="7477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93720" y="3140640"/>
              <a:ext cx="0" cy="187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6200000">
              <a:off x="5610960" y="2641320"/>
              <a:ext cx="249480" cy="7477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1" name=""/>
            <p:cNvGraphicFramePr/>
            <p:nvPr/>
          </p:nvGraphicFramePr>
          <p:xfrm>
            <a:off x="1994760" y="4969800"/>
            <a:ext cx="1101240" cy="7473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94760" y="4969800"/>
                      <a:ext cx="1101240" cy="74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3" name=""/>
            <p:cNvSpPr/>
            <p:nvPr/>
          </p:nvSpPr>
          <p:spPr>
            <a:xfrm>
              <a:off x="8271000" y="4449960"/>
              <a:ext cx="249120" cy="3322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395920" y="3015720"/>
              <a:ext cx="0" cy="141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910880" y="5718240"/>
              <a:ext cx="183024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MPRESSO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76160" y="4052880"/>
              <a:ext cx="133056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THERN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27400" y="2425680"/>
              <a:ext cx="82944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86400" y="2425680"/>
              <a:ext cx="99648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05360" y="3174840"/>
              <a:ext cx="108072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CTIVE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981920" y="4886280"/>
              <a:ext cx="116208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FOO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2080" y="3720600"/>
              <a:ext cx="133056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LIENTE (BROWSER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413000" y="3139560"/>
              <a:ext cx="66492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TT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92320" y="3139560"/>
              <a:ext cx="83016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TT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6"/>
            <a:stretch/>
          </p:blipFill>
          <p:spPr>
            <a:xfrm>
              <a:off x="3512160" y="2475720"/>
              <a:ext cx="1153800" cy="118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7"/>
            <a:stretch/>
          </p:blipFill>
          <p:spPr>
            <a:xfrm>
              <a:off x="6733440" y="2475720"/>
              <a:ext cx="1153440" cy="11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867760" y="3015720"/>
              <a:ext cx="87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488840" y="3015720"/>
              <a:ext cx="87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09560" y="3015720"/>
              <a:ext cx="87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47480" y="2994840"/>
              <a:ext cx="74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97960" y="3555720"/>
              <a:ext cx="14137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RVIDOR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ANCO DE DADOS (CACHÉ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741480" y="3555720"/>
              <a:ext cx="1495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RVID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EB (IIS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3640" y="1125360"/>
            <a:ext cx="8569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onstração do Siste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gora apresentaremos o Sistema LinFOOD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1125360"/>
            <a:ext cx="8569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blemas enfren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que hoje pudéssemos demonstrar a versão 1.0 concluída do Sistema LinFOOD, tivemos que solucionar diversos problemas durante o seu desenvolvimen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* Linux ou Windows? Eis a quest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* Java ou ASP? Qual o Risc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* Vamos aprender Caché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643280" y="4292640"/>
          <a:ext cx="1332000" cy="190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3280" y="4292640"/>
                    <a:ext cx="1332000" cy="19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443640" y="4365720"/>
            <a:ext cx="208908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3640" y="1125360"/>
            <a:ext cx="8569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ções Aprend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ós o desenvolvimento do Sistema LinFOOD, pudemos aprender algumas lições importantes para a vi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* Simples não é ru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* Não corra riscos desnecess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* Aprenda a ouvir e compreender seus companhei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* Não deixe para fazer na última h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, principalm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* Acredite no seu trabalho e no seu pot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3640" y="1125360"/>
            <a:ext cx="8569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Grupo Omega agrade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Espaço Reservado para Pergunt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Narc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Pa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Rob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R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23:46:46Z</dcterms:created>
  <dc:creator>rute.silva</dc:creator>
  <dc:description/>
  <dc:language>en-US</dc:language>
  <cp:lastModifiedBy>Robson de Sousa Martins</cp:lastModifiedBy>
  <dcterms:modified xsi:type="dcterms:W3CDTF">2003-12-02T21:50:40Z</dcterms:modified>
  <cp:revision>16</cp:revision>
  <dc:subject/>
  <dc:title>Apresentação do PowerPoint</dc:title>
</cp:coreProperties>
</file>